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667-A8CB-4049-947C-2E3AFC1A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2EB-F6AB-4872-AC02-226D5EF4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E07FC-1CDF-4596-81AD-40FA0575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7EC03-C052-4B48-9F48-E28630FF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50A7E-B70E-4780-ABE2-407EF92B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F6868-AD1F-4680-AA7B-3F2A9C96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1C91A-F7E2-4A96-A6E5-2756AE84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BB24F-800F-4233-8C63-21A25310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E13E9-8416-474C-815A-311BB161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C1835-7371-4692-B33F-39AE964E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B7B99-E2DC-48D0-B5E4-40F3603C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131E2-92E8-4228-BA58-5322889E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F7E-A024-4BC9-B9A7-4BC442BC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5D879-77B2-491F-8E10-EFC34345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C5716-9225-47BB-BF5E-60CD0524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EFC7E-CE74-4B26-9C83-8F685634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61407-F0B3-4752-974C-89E3FDEF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6A529-B88D-4F62-9652-7188CAC4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835F2-E5CD-43E4-92A8-D3189948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0D950-F2A7-4951-94C3-09DD6158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D8F11-F978-4282-BDF6-4842B5B7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DE4B9-1746-44AF-9527-A63EE0A8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CFDEA-F7FD-43A3-BE75-2928EA2B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D95-4301-42AC-B75A-476F237D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7DF07-9752-4947-B3A5-E4C7546A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67D15-0FDD-4A6C-96E6-C44C539C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88747-BCE7-4426-96EF-B7A1148D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6C339-D179-4701-B626-CC182AB6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704CA-3E38-4915-A077-81D21BE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EAD9D-62C6-40D0-85DB-342276F0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472AF-55DC-494C-9F13-0E2E688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AC4A6-FC31-4B64-A415-40DE4C96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EA369-66EE-4DC3-AFAD-175D8F2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E7292-E878-4229-AC0D-FC162E20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343A-7B14-4DCF-9290-4AEBB206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18110-E813-463D-8ABC-B60FDA6C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0487A-1ADE-4185-B8D8-49416B03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41C44-8AFC-42D7-97EB-C79FF165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BD6FF-863E-43B9-AD78-C0176724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8B2F7-CBB6-458E-BB1D-A8AF5204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BF509-92F7-4628-99E0-AEE10244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FDC53-CDA5-43BB-AB3D-52DF3381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BDD7D-7BB8-4424-A35C-C340F94B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43A38-1EEF-4093-A2FB-C1370FCB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A200C-3582-44E6-BA0B-0D99D17F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0961-0F98-4232-A928-55E35A51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BBECE-18ED-454E-8D5A-79FF0B3F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57DFE-2EDE-49BA-A391-752C9166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A2235-99FB-4B15-B140-87B14A29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B7112-22D0-4B4A-8A9A-29286D06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A1964-F86D-44AD-89DE-31135C2E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3E135-4763-444C-8818-1905EE40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195E8-95C0-43E6-B07C-37D8875C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45A26-C172-46F7-9AA1-FD2FC5ED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13A30-F9DA-4F86-8A24-914F121C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50EDB-0F5D-4F41-BCAE-26177C7E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8458-DB74-416C-B054-ACE1D934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93FC4-4306-440F-8FA6-61BD51CF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7DB82-E237-4080-98D1-336577D0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2CFBE-43A7-46CC-85D8-B69E5942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9D640-CD13-4F7E-94B3-57DC726A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31E7E-D8B9-4469-BCE9-0E3C1FBA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9D5D5-E475-48D0-B825-01F67818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1ED4B-7203-4B4F-9A70-5AE6C713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C17702-4317-414D-BDD9-0AD86BB2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531D46-B036-49CC-99D8-B6C41F55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122607-1BC7-4839-8A5D-7580D52B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1957-04A7-4A91-83A0-D841696F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755F8F-825F-42EA-ACAD-4BD268E2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708CE5-A6D4-4E2E-BAA7-438C2872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2B1E18-EDB8-4B33-AA68-27DFA192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698FEF-5584-418B-A126-FF781F1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2AA20E-C4F5-44DD-9DE3-98BD4F79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69C305-AC86-43B2-9B81-D52A19BC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B634E3-4D57-46D9-AFB8-F52FE009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2A0AF1-126C-43FD-9E15-25B50D40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BD1CB4-7482-4D52-A835-E987BCB7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15C5C-9269-4501-BE6A-53EC0AEA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7746-86FF-4137-B64B-444BA945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91634B-60D5-43D9-92C3-26C2F893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88070-77F7-4EBE-B1C9-BC372C1E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033BE-689C-4A6C-8A78-6344F751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B9FA7-EF1F-458E-A6B6-437D2C0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0CF29-C37A-4610-98D6-041212A7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4E319-F3A5-4710-A30A-83136D02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09F0C-6950-4F5B-A036-012EF6E2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6B2AD-0CFE-42F3-8880-08AB1D91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95786-BA9C-4042-A9EE-A0E5D5FF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0309B-A627-458C-800F-C8514D45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55C7-9AD2-4388-A570-85BBCFBC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1579FB-21BC-412F-B23A-F9EC72D1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A7EC9-AE29-4380-87F8-98497C70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1AF39-6438-4B46-B905-4A677B6B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845B9-D5B6-4931-8CF4-23A3A4F7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78290-C81A-423C-9210-CB94F047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78520-AA34-4B0B-A5C9-891573ED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1E3A2F-00C6-42E4-9E3C-B3B82AC3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4E996-01C0-49DA-85FE-34AF9E30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5FF82-03FD-4F42-8181-993DB130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AA62F-8B39-40E0-B09C-969A1AAD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E833-50DC-4B3F-AA5D-1B7900B5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97B2A-D69E-4DCF-B0F0-6E72466B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12176-A948-4259-A566-84D27589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51806-62A7-4963-9EAC-6F6D73CF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976-2639-4A00-AEA8-DA4CDC5E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4DF0-3253-4B9E-AA95-6CFDD60E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BEC8-7A60-4FB1-A65D-95C524E8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4054-412A-4CC4-A544-16B9711D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4548-8D66-42E3-B956-8B2D25F6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648C-27E3-458B-A971-4563BE0E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95368-221D-4714-B5D4-5FDD9BCA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3002-3CB0-49D1-B7B7-89D98607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975C-3B09-4CC9-8406-700D237F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25D4-D595-4D46-B972-0989D723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1B362-764F-4F72-BEFB-3656ED6B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52D-ADB6-40BF-AD41-51A675B3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0AC4-CFED-4466-ADFA-8E8A080E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598C-8C9D-452E-878C-8BD8F00B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6F591-4E4C-48D3-B3FE-1D7CD791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AE1B5-37EA-42CC-B68F-A0725B49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25ED-4D97-4F13-8366-1557D893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EAAAA-E925-400E-8836-F03FC64B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8378-78B9-45A4-BCCD-886BB4D3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56922-EBAC-41F8-816E-49B71E69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934B4-44CD-480F-BE7E-2C91D839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20C0-8A3D-48FC-9445-63A488AC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03C-64AE-4871-B7CF-DED21DE3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A929-E0A1-4014-96DD-5CAF2442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87FC2-8F82-4A3C-B145-0034AA9E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0975-61A5-4F9B-81FC-FF3E67BC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1A6B9-E4DE-4A8B-BDFF-11BC2425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364BF-97DD-4C6B-A870-E9A85B86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C408-9A59-4101-B620-BC32B515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B043-8E39-4F92-A619-955DC00C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30762-DF22-4AFF-A450-FE35642A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CD973-3551-4ED8-A4FB-205FDAD7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F8B2F-D262-4ED6-BDD5-1B6635A9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E9B-DD3B-4CCF-B984-7BE9D3E1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492CD-8B42-4576-946D-196AA034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6281-8ECE-4D4B-BE23-857B828A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B82A-13A2-4121-9C1A-5E58BAD0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0D73E-7A1C-48BD-9D25-9E75914E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B3945-C768-4B92-83F1-621A6462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84E3D-A94B-476B-8126-BA6C3844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656D5-ACE8-424F-BE76-67B355E7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A9672-0EBD-41AD-8E8E-44A17CDD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BAF32-1194-4A00-A335-6FAC3F0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AB8D6-2CDD-4155-B810-0C06237A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E58-FAFD-4BAA-A210-FEE5AB06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684B7-739C-4ADF-804C-0B2FBC9E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2BCB-6609-4DB6-9224-136B0973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FC897-D72D-4133-971C-FE9A4C7C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FFA1E-12D2-4FAC-ADA0-165DB95A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83DE5-7330-4A2D-B88E-C5E73555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4BC6D-E286-49E9-9E42-F6770BF5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A78E3-E103-4622-B670-768BC832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ED9E3-A9C7-4C82-A019-5EB1BA31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9E367-0654-47E7-8EA4-1E3CD5F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A9F51-8264-47BB-A349-1E97266B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5B0-443F-42B6-81E0-BB1708FC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DC727-4665-4138-8B1A-09A62F7A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563EE-FA89-476E-AA41-25BC53C6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EAD2D-057E-466F-884D-CFA98AA8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90B4D-1036-4B09-B10A-400F40D0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8B8A0-C322-4C41-9A15-5BBF6891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C57BB-1E19-478D-9F1E-0CD53946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B581F-8978-47FD-A3EE-E1045B23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FB5C0-E30E-4189-9E04-B8AE36F0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C556B-D0F2-417C-A0D5-48E8FA92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3A845-694F-4463-9EF1-FD30EFB5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295-E67C-441C-A346-F092C8E4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DBDE8-597E-455F-A664-944E5EDA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20BA2-E2B0-4324-9C8A-F43AB93E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C3104-42E2-4D07-BDED-C7D41F9B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CA747-F657-4639-8308-801CF68A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CA97F-82DE-482A-B747-A4B076F0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FA1E3-7AE3-4B3E-9793-AEB23468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0352F-6250-4AD3-BBFE-6F5F77FA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92279-FD5B-477C-83F8-BE7665B4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EA1AC-3FBA-40CE-A981-8EB2EEB0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58DF2-4B3A-4114-B30C-E679BF34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DE5-6C26-41B7-8C85-92CE0807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AE697-EFCE-45CF-9A0F-75CCB0DD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C8325-2465-4778-887D-41CBCF6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2A3C7-85F8-4C36-A76D-9DF5F627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AD2BA-F63B-47C4-BE99-1B637D27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E2149-3207-44B6-86A6-676C0CF7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E4DD2-27F8-4396-989B-DA319752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68892-E153-41FB-8E69-1CFDAC9B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6082B-1B78-4199-8C0C-FFD29834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0A747-2C75-47E6-97E4-0BAEF114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EB5DE-8674-4B46-9881-BD880D12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BB08-9190-4159-9EF9-8FB0462CD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6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006C-E1DE-44C0-8676-EEF73942B7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1F94-F51F-4952-B24E-066EFCAC2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67EE-11E7-4C4B-A3C2-ADC158945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2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2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3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A7A7-23DA-4A9A-9477-07875BAC04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8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8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9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9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F77E-ECE2-475F-AD8C-CA20BB79D9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4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4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4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5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5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5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02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4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4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5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B97F-EF98-4006-B3F2-11BDC0A0B6B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12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12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12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3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13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3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3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4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4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5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6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7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8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8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8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9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9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9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0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0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0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21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21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21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21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22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22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2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23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A2D1-270D-47A2-8512-3F14741CC65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C0EC-86F7-447A-BFC3-630A1D03A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8BD7-CCFA-4E7F-B6A9-BF9489C800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0653-BE59-4B14-B42A-1828B3EA30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51F9-2CC9-4465-A766-496300171F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9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0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4188-1F7F-454D-AEDB-75316E70E9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7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7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8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0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2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6424-1DA0-4DCF-946D-E87F65DA3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7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7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9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0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2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3658-4758-41C0-AE97-C1483C658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8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B4B7-B415-4795-AEDE-2CC636ED90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ffect of temperature when hot water is added to ice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Brandon &amp; Er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: Will different volumes of hot affect the temperature ice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As the volume of the hot water increases the mixed water’s temperature will be around 50 degrees Cels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2000"/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ab (continued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V: Volume of hot wat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V: Temperature of mixed wate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tants: Type of water, Temperature of hot water, Volume of ice water, and the Equip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8" name=""/>
          <p:cNvSpPr/>
          <p:nvPr/>
        </p:nvSpPr>
        <p:spPr>
          <a:xfrm>
            <a:off x="4479840" y="491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V Lev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300" name=""/>
          <p:cNvGraphicFramePr/>
          <p:nvPr/>
        </p:nvGraphicFramePr>
        <p:xfrm>
          <a:off x="152280" y="1905120"/>
          <a:ext cx="8839440" cy="2971800"/>
        </p:xfrm>
        <a:graphic>
          <a:graphicData uri="http://schemas.openxmlformats.org/drawingml/2006/table">
            <a:tbl>
              <a:tblPr/>
              <a:tblGrid>
                <a:gridCol w="1263600"/>
                <a:gridCol w="1262160"/>
                <a:gridCol w="1263600"/>
                <a:gridCol w="1260720"/>
                <a:gridCol w="1263600"/>
                <a:gridCol w="1262160"/>
                <a:gridCol w="1263600"/>
              </a:tblGrid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olu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m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i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ced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asure 50 mL of wa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ur into beak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t water until 90 degrees Celsiu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ur hot water into 50 mL of ice wa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asure the tempera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d 10 mL of 90 degree water each time and stop after 100 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a 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304" name=""/>
          <p:cNvGraphicFramePr/>
          <p:nvPr/>
        </p:nvGraphicFramePr>
        <p:xfrm>
          <a:off x="457200" y="1600200"/>
          <a:ext cx="8229600" cy="479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me (m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xed Water Temper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the data there was an immediate drop from the 90 degree water when we mixed it with the ice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more hot water was added to the ice water the mixed water temperature started to r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100mL of water our max temperature of mixed water was 58.3 degrees Celsius and the minimum temperature was 44.7 degrees Celsi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2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84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8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ypothesis we created was correct to ou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hypothesis stated that the mixed water would heat up as more hot water was added but it would never reach the hot waters temperature of 90 degree Cels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rpret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happened because the hot water had a higher temperature so it made the ice water raise in tempera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7:26:43Z</dcterms:created>
  <dc:creator>default</dc:creator>
  <dc:description/>
  <dc:language>en-US</dc:language>
  <cp:lastModifiedBy>default</cp:lastModifiedBy>
  <dcterms:modified xsi:type="dcterms:W3CDTF">2008-01-04T16:56:44Z</dcterms:modified>
  <cp:revision>11</cp:revision>
  <dc:subject/>
  <dc:title>The effect of temperature when hot water is added to ice water</dc:title>
</cp:coreProperties>
</file>